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716-2E56-4B4A-8C6C-A61B72A6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052-02C2-4D64-BD0A-3C78043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9F-46B2-46B0-82FD-AA221EF4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208-128D-4D94-B1EF-E3452A4F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69B-843F-4D5E-B0B4-2D66D2FF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0AC-E8B9-4748-8E8C-3B011971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40A-1BB7-4E04-952F-7B5380C6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622-919E-48A4-B7F9-1A10916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8C5-4940-44DF-A947-998E4E92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7A4-A888-4F6D-9107-5734BB6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79D-A33C-46EA-99FA-DD035CB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7F1-ADA2-4DD1-A502-1B1F938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1A0-2FDD-4E7F-BBA5-9BFA34AF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1 de octubre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14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practicamos para la Prueba #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vide e indica l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osición de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Cua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sc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orta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. Sacap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dré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. Grap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ñ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0.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-Divide y  clasifica según el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úmero de silab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popótam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licóp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di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mes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vide, lee la palabra en voz alta, encierra la silaba que tiene el acento. (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cuerda que puede ser un acento auditivo u ortográfico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sa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. Señ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z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. Kilogr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cto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0. To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6:41:27Z</dcterms:created>
  <dc:creator>Helen Zumaeta</dc:creator>
  <dc:description/>
  <dc:language>en-US</dc:language>
  <cp:lastModifiedBy>Helen Zumaeta</cp:lastModifiedBy>
  <dcterms:modified xsi:type="dcterms:W3CDTF">2011-10-21T16:41:47Z</dcterms:modified>
  <cp:revision>1</cp:revision>
  <dc:subject/>
  <dc:title>Me llamo _________Clase 6NH La fecha es el 21 de octubre del </dc:title>
</cp:coreProperties>
</file>